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86A-63AB-4E34-8A0B-E2791A34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ED7-85C4-43F4-8A28-F88B7AEA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42C-BA4D-4618-A906-0DE1766C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290-F86F-44DF-9B79-001FE197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946-7C5B-4FE3-92F8-694225F1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D89-F7E2-466D-9C52-1F32FA57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C684-32E4-44A6-AB7B-1DA9F795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DBA-3046-49F4-A540-5B1A9066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0A9-32C9-4C6D-A3F8-96044F70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D3E-7547-4DDE-BECD-798F6EAF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564-35AD-4D28-8968-B7539D41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736-CE60-4BDD-8B3D-5DD1607B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152F-8113-4600-8359-D88DB6D7B5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3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79360"/>
            <a:ext cx="8001000" cy="94716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33cc"/>
                </a:solidFill>
                <a:latin typeface="Arial"/>
              </a:rPr>
              <a:t>VII Expert Panel                                        Emissioni da Trasporto Strad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209680"/>
            <a:ext cx="640080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ARATTERIZZAZIONE DIMENSIONALE DEL PARTICOLATO EMESSO DA AUTOVEICOLI DIES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.Avella, D.Fa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5194440"/>
            <a:ext cx="8381880" cy="1143000"/>
            <a:chOff x="0" y="5194440"/>
            <a:chExt cx="8381880" cy="1143000"/>
          </a:xfrm>
        </p:grpSpPr>
        <p:sp>
          <p:nvSpPr>
            <p:cNvPr id="44" name=""/>
            <p:cNvSpPr/>
            <p:nvPr/>
          </p:nvSpPr>
          <p:spPr>
            <a:xfrm>
              <a:off x="914400" y="6095880"/>
              <a:ext cx="7467480" cy="0"/>
            </a:xfrm>
            <a:prstGeom prst="line">
              <a:avLst/>
            </a:prstGeom>
            <a:ln w="7632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0" y="5194440"/>
              <a:ext cx="8096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961920" y="5575320"/>
              <a:ext cx="7391520" cy="0"/>
            </a:xfrm>
            <a:prstGeom prst="line">
              <a:avLst/>
            </a:prstGeom>
            <a:ln w="7632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317840" y="5842080"/>
              <a:ext cx="30481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96600"/>
                  </a:solidFill>
                  <a:latin typeface="Arial"/>
                </a:rPr>
                <a:t>San Donato Milanes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7920" y="5334120"/>
              <a:ext cx="5333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96600"/>
                  </a:solidFill>
                  <a:latin typeface="Arial"/>
                </a:rPr>
                <a:t>Stazione Sperimentale per i Combustibil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ZIONE EMISSIONE IN NUMERO/V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763120" cy="50022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7315200" y="1600200"/>
            <a:ext cx="1371600" cy="1155600"/>
            <a:chOff x="7315200" y="1600200"/>
            <a:chExt cx="1371600" cy="1155600"/>
          </a:xfrm>
        </p:grpSpPr>
        <p:sp>
          <p:nvSpPr>
            <p:cNvPr id="130" name=""/>
            <p:cNvSpPr/>
            <p:nvPr/>
          </p:nvSpPr>
          <p:spPr>
            <a:xfrm>
              <a:off x="7315200" y="1600200"/>
              <a:ext cx="1371600" cy="11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1752480"/>
              <a:ext cx="91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VEIC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59000" y="2068560"/>
              <a:ext cx="465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16200" y="206856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B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59360" y="2385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21240" y="2385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81080" y="228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SSIONE ORARIA P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N/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115320" cy="17906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685800" y="2695680"/>
            <a:ext cx="6724800" cy="1987560"/>
            <a:chOff x="685800" y="2695680"/>
            <a:chExt cx="6724800" cy="19875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685800" y="2772000"/>
              <a:ext cx="65232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1295280" y="2695680"/>
              <a:ext cx="6115320" cy="19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1914480" y="2549520"/>
            <a:ext cx="5257800" cy="155880"/>
            <a:chOff x="1914480" y="2549520"/>
            <a:chExt cx="5257800" cy="155880"/>
          </a:xfrm>
        </p:grpSpPr>
        <p:grpSp>
          <p:nvGrpSpPr>
            <p:cNvPr id="142" name=""/>
            <p:cNvGrpSpPr/>
            <p:nvPr/>
          </p:nvGrpSpPr>
          <p:grpSpPr>
            <a:xfrm>
              <a:off x="1914480" y="2571840"/>
              <a:ext cx="2766960" cy="114120"/>
              <a:chOff x="1914480" y="2571840"/>
              <a:chExt cx="2766960" cy="114120"/>
            </a:xfrm>
          </p:grpSpPr>
          <p:sp>
            <p:nvSpPr>
              <p:cNvPr id="143" name=""/>
              <p:cNvSpPr/>
              <p:nvPr/>
            </p:nvSpPr>
            <p:spPr>
              <a:xfrm>
                <a:off x="1990800" y="2629080"/>
                <a:ext cx="261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1448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86400" y="258120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068280" y="2549520"/>
              <a:ext cx="14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662360" y="2571840"/>
              <a:ext cx="1660680" cy="104760"/>
              <a:chOff x="4662360" y="2571840"/>
              <a:chExt cx="1660680" cy="10476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4738680" y="2619000"/>
                <a:ext cx="15080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66236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2764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313320" y="2571840"/>
              <a:ext cx="858960" cy="104760"/>
              <a:chOff x="6313320" y="2571840"/>
              <a:chExt cx="858960" cy="104760"/>
            </a:xfrm>
          </p:grpSpPr>
          <p:sp>
            <p:nvSpPr>
              <p:cNvPr id="152" name=""/>
              <p:cNvSpPr/>
              <p:nvPr/>
            </p:nvSpPr>
            <p:spPr>
              <a:xfrm flipV="1">
                <a:off x="6389640" y="2619000"/>
                <a:ext cx="70632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31332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077240" y="257184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564960" y="25495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U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1120" y="255276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49160" y="4584600"/>
            <a:ext cx="6634080" cy="2011320"/>
            <a:chOff x="749160" y="4584600"/>
            <a:chExt cx="6634080" cy="2011320"/>
          </a:xfrm>
        </p:grpSpPr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>
              <a:off x="749160" y="4684320"/>
              <a:ext cx="652320" cy="191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>
              <a:off x="1296720" y="4584600"/>
              <a:ext cx="6086520" cy="195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685800" y="762120"/>
            <a:ext cx="6523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981080" y="228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SSIONE ORARIA P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N/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652320" cy="1752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95280" y="762120"/>
            <a:ext cx="6115320" cy="179064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762120" y="4622760"/>
            <a:ext cx="6724080" cy="1971720"/>
            <a:chOff x="762120" y="4622760"/>
            <a:chExt cx="6724080" cy="197172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762120" y="4622760"/>
              <a:ext cx="65196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1371240" y="4622760"/>
              <a:ext cx="6114960" cy="19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1914480" y="2549520"/>
            <a:ext cx="5257800" cy="155880"/>
            <a:chOff x="1914480" y="2549520"/>
            <a:chExt cx="5257800" cy="155880"/>
          </a:xfrm>
        </p:grpSpPr>
        <p:grpSp>
          <p:nvGrpSpPr>
            <p:cNvPr id="168" name=""/>
            <p:cNvGrpSpPr/>
            <p:nvPr/>
          </p:nvGrpSpPr>
          <p:grpSpPr>
            <a:xfrm>
              <a:off x="1914480" y="2571840"/>
              <a:ext cx="2766960" cy="114120"/>
              <a:chOff x="1914480" y="2571840"/>
              <a:chExt cx="2766960" cy="114120"/>
            </a:xfrm>
          </p:grpSpPr>
          <p:sp>
            <p:nvSpPr>
              <p:cNvPr id="169" name=""/>
              <p:cNvSpPr/>
              <p:nvPr/>
            </p:nvSpPr>
            <p:spPr>
              <a:xfrm>
                <a:off x="1990800" y="2629080"/>
                <a:ext cx="2614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1448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86400" y="258120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3068280" y="2549520"/>
              <a:ext cx="14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662360" y="2571840"/>
              <a:ext cx="1660680" cy="104760"/>
              <a:chOff x="4662360" y="2571840"/>
              <a:chExt cx="1660680" cy="104760"/>
            </a:xfrm>
          </p:grpSpPr>
          <p:sp>
            <p:nvSpPr>
              <p:cNvPr id="174" name=""/>
              <p:cNvSpPr/>
              <p:nvPr/>
            </p:nvSpPr>
            <p:spPr>
              <a:xfrm flipV="1">
                <a:off x="4738680" y="2619000"/>
                <a:ext cx="15080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6236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2764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313320" y="2571840"/>
              <a:ext cx="858960" cy="104760"/>
              <a:chOff x="6313320" y="2571840"/>
              <a:chExt cx="858960" cy="10476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6389640" y="2619000"/>
                <a:ext cx="70632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13320" y="2571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0"/>
                    </a:moveTo>
                    <a:lnTo>
                      <a:pt x="0" y="36"/>
                    </a:lnTo>
                    <a:lnTo>
                      <a:pt x="60" y="6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77240" y="257184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6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6564960" y="25495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U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71120" y="255276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D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49160" y="2743200"/>
            <a:ext cx="6729480" cy="1943280"/>
            <a:chOff x="749160" y="2743200"/>
            <a:chExt cx="6729480" cy="1943280"/>
          </a:xfrm>
        </p:grpSpPr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749160" y="2772000"/>
              <a:ext cx="652320" cy="19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1363680" y="2743200"/>
              <a:ext cx="6114960" cy="194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3960" y="3649680"/>
            <a:ext cx="399888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6080" y="4051440"/>
            <a:ext cx="30081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6080" y="5460840"/>
            <a:ext cx="300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6080" y="518004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6080" y="489744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6080" y="461340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6080" y="433404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6080" y="4051440"/>
            <a:ext cx="300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19400" y="4051440"/>
            <a:ext cx="1440" cy="16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20920" y="4051440"/>
            <a:ext cx="1800" cy="16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24240" y="4051440"/>
            <a:ext cx="1800" cy="16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6080" y="4051440"/>
            <a:ext cx="3008160" cy="16920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6080" y="4051440"/>
            <a:ext cx="1440" cy="1692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82600" y="574344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82600" y="546084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82600" y="51800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2600" y="48974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2600" y="46134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2600" y="43340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82600" y="40514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6080" y="5743440"/>
            <a:ext cx="300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608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51776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956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1944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91772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9969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06388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2076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17332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2194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2108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6971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82240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91924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9988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0672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2408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7664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2209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52440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70044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8257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92256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002120" y="5743080"/>
            <a:ext cx="144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06872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2740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17816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224240" y="5743080"/>
            <a:ext cx="180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216080" y="5743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19400" y="57430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220920" y="57430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224240" y="57430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95600" y="5046480"/>
            <a:ext cx="1440" cy="696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95600" y="5046840"/>
            <a:ext cx="3013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96920" y="5046840"/>
            <a:ext cx="1800" cy="696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9692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96920" y="4456080"/>
            <a:ext cx="1800" cy="1287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96920" y="4456080"/>
            <a:ext cx="239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36680" y="4456080"/>
            <a:ext cx="1800" cy="1287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3668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236680" y="4689360"/>
            <a:ext cx="1800" cy="10540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36680" y="4689360"/>
            <a:ext cx="2016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689360"/>
            <a:ext cx="1800" cy="10540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828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438280" y="5398560"/>
            <a:ext cx="1800" cy="344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539892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24040" y="5398920"/>
            <a:ext cx="1800" cy="344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404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624040" y="5654160"/>
            <a:ext cx="1800" cy="88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24040" y="5654520"/>
            <a:ext cx="189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3040" y="5654520"/>
            <a:ext cx="1440" cy="88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304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813040" y="5722560"/>
            <a:ext cx="1440" cy="20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3040" y="5722920"/>
            <a:ext cx="2113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24360" y="5722920"/>
            <a:ext cx="1440" cy="20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436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024360" y="5736960"/>
            <a:ext cx="1440" cy="6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24360" y="5737320"/>
            <a:ext cx="1951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19480" y="5737320"/>
            <a:ext cx="1440" cy="6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948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1948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19480" y="5743440"/>
            <a:ext cx="2062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576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576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576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5760" y="574344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1152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1152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11520" y="57434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11520" y="5743440"/>
            <a:ext cx="2113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2284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2284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2284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22840" y="5743440"/>
            <a:ext cx="2253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820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4820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4820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48200" y="5743440"/>
            <a:ext cx="1792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30720" y="5743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6960" y="5673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6960" y="5391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0E+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6960" y="51102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6960" y="4827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5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6960" y="45435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6960" y="42642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5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6960" y="3981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02320" y="58402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8760" y="58402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90320" y="5840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60160" y="58402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78240" y="600228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27000" y="599292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06560" y="600228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-31680" y="482184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3960" y="3740040"/>
            <a:ext cx="10400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21640" y="37591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6080" y="1557360"/>
            <a:ext cx="29988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6080" y="296388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16080" y="268128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16080" y="240048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6080" y="2120760"/>
            <a:ext cx="299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6080" y="183672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16080" y="155736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16160" y="1557360"/>
            <a:ext cx="144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16240" y="1557360"/>
            <a:ext cx="180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4880" y="1557360"/>
            <a:ext cx="144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6080" y="1557360"/>
            <a:ext cx="2998800" cy="16858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6080" y="1557360"/>
            <a:ext cx="1440" cy="1685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82600" y="32432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82600" y="29638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82600" y="26812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82600" y="24004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82600" y="212076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82600" y="18367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82600" y="15573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6080" y="3243240"/>
            <a:ext cx="299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2160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5177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6923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81620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91448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99404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06064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1178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17008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2161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51784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69064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8162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91456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9232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6072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1179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17016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21624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51792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6910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8163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91320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99240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05936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11804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170240" y="324288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214880" y="324288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216080" y="324288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216160" y="324288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216240" y="324288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214880" y="324288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692360" y="2436840"/>
            <a:ext cx="1440" cy="8064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92360" y="2436840"/>
            <a:ext cx="3016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94040" y="2436840"/>
            <a:ext cx="1440" cy="8064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94040" y="32432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994040" y="1800360"/>
            <a:ext cx="1440" cy="14428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94040" y="1800360"/>
            <a:ext cx="2394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33440" y="1800360"/>
            <a:ext cx="1800" cy="14428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3344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233440" y="2239560"/>
            <a:ext cx="1800" cy="1003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33440" y="2239920"/>
            <a:ext cx="1987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2160" y="2239920"/>
            <a:ext cx="1440" cy="1003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2160" y="32432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432160" y="3045960"/>
            <a:ext cx="1440" cy="196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32160" y="3046320"/>
            <a:ext cx="1886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20800" y="3046320"/>
            <a:ext cx="1800" cy="196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2080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620800" y="3209400"/>
            <a:ext cx="1800" cy="33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20800" y="320976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06560" y="3209760"/>
            <a:ext cx="1800" cy="33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0656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806560" y="3231720"/>
            <a:ext cx="1800" cy="11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06560" y="3232080"/>
            <a:ext cx="2113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17880" y="3232080"/>
            <a:ext cx="1440" cy="11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17880" y="32432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017880" y="3241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17880" y="3241800"/>
            <a:ext cx="1951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13000" y="32418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1300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13000" y="324324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13000" y="3243240"/>
            <a:ext cx="206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419640" y="32432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93560" y="1316160"/>
            <a:ext cx="8643960" cy="4881600"/>
            <a:chOff x="493560" y="1316160"/>
            <a:chExt cx="8643960" cy="4881600"/>
          </a:xfrm>
        </p:grpSpPr>
        <p:sp>
          <p:nvSpPr>
            <p:cNvPr id="387" name=""/>
            <p:cNvSpPr/>
            <p:nvPr/>
          </p:nvSpPr>
          <p:spPr>
            <a:xfrm>
              <a:off x="34196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196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19640" y="3243240"/>
              <a:ext cx="1854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0504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504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0504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05040" y="3243240"/>
              <a:ext cx="20808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1312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1312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1312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13120" y="3243240"/>
              <a:ext cx="22536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3848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3848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3848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38480" y="3243240"/>
              <a:ext cx="1796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2100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6960" y="317340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E+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6960" y="289404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5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96960" y="261144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.0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6960" y="233028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.5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6960" y="20509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0E+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6960" y="176688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3E+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6960" y="14875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5E+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02320" y="33415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5520" y="334152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3840" y="3341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0440" y="334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65280" y="33987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p [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15840" y="33894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95400" y="339876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6200000">
              <a:off x="-22320" y="2309040"/>
              <a:ext cx="1184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N/dLogDp  [part/s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54360" y="1316160"/>
              <a:ext cx="4580280" cy="25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65880" y="1560600"/>
              <a:ext cx="319716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65880" y="296388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65880" y="268452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65880" y="2403360"/>
              <a:ext cx="319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65880" y="2120760"/>
              <a:ext cx="3197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65880" y="183996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65880" y="156060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32560" y="1560600"/>
              <a:ext cx="1440" cy="16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96360" y="1560600"/>
              <a:ext cx="1440" cy="16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663040" y="1560600"/>
              <a:ext cx="1440" cy="16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65880" y="1560600"/>
              <a:ext cx="3197160" cy="16826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65880" y="1560600"/>
              <a:ext cx="1440" cy="16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0960" y="324324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30960" y="296388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30960" y="268452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30960" y="240336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430960" y="212076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30960" y="183996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30960" y="156060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65880" y="3243240"/>
              <a:ext cx="3197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546588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7848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9738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1088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20856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29460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3673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42780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648324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53256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68515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0405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17228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727560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36128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43112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49124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75470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59636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91856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810432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823896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834228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84247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849780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855828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8613720" y="3242880"/>
              <a:ext cx="180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8663040" y="3242880"/>
              <a:ext cx="144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465880" y="3242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6532560" y="3242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7596360" y="3242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8663040" y="324288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973840" y="2379240"/>
              <a:ext cx="1440" cy="8636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73840" y="2379600"/>
              <a:ext cx="320760" cy="18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94600" y="2379600"/>
              <a:ext cx="1440" cy="8636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9460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6294600" y="2004840"/>
              <a:ext cx="1440" cy="12384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94600" y="2004840"/>
              <a:ext cx="255600" cy="18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0200" y="2004840"/>
              <a:ext cx="1440" cy="12384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5020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6550200" y="2406600"/>
              <a:ext cx="1440" cy="8366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0200" y="2406600"/>
              <a:ext cx="214200" cy="18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64400" y="2406600"/>
              <a:ext cx="1440" cy="8366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6440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6764400" y="2847960"/>
              <a:ext cx="1440" cy="39528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764400" y="2847960"/>
              <a:ext cx="19692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61320" y="2847960"/>
              <a:ext cx="1440" cy="39528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6132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961320" y="3146040"/>
              <a:ext cx="1440" cy="968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61320" y="3146400"/>
              <a:ext cx="2016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162920" y="3146400"/>
              <a:ext cx="1440" cy="968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92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162920" y="3222360"/>
              <a:ext cx="1440" cy="2052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62920" y="3222720"/>
              <a:ext cx="22212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85040" y="3222720"/>
              <a:ext cx="1440" cy="2052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850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385040" y="324180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85040" y="3241800"/>
              <a:ext cx="20808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93120" y="324180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9312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59312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593120" y="3243240"/>
              <a:ext cx="22212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152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152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152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815240" y="3243240"/>
              <a:ext cx="19512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01036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1036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01036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010360" y="3243240"/>
              <a:ext cx="22248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2328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2328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23284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232840" y="3243240"/>
              <a:ext cx="244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47728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47728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77280" y="3243240"/>
              <a:ext cx="1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477280" y="3243240"/>
              <a:ext cx="1890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669160" y="3243240"/>
              <a:ext cx="180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44960" y="317340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E+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44960" y="289404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.0E+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44960" y="261288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0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44960" y="23335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5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44960" y="20509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44960" y="177012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5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44960" y="1490760"/>
              <a:ext cx="43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.0E+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52120" y="33415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52280" y="334152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65400" y="3341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597160" y="3341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31000" y="34113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p [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79760" y="34020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59320" y="3411360"/>
              <a:ext cx="15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6200000">
              <a:off x="4217760" y="2326320"/>
              <a:ext cx="1184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dN/dLogDp  [part/s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54360" y="3649680"/>
              <a:ext cx="4583160" cy="25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59400" y="4048200"/>
              <a:ext cx="323676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59400" y="5402160"/>
              <a:ext cx="323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459400" y="5064120"/>
              <a:ext cx="323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59400" y="4724280"/>
              <a:ext cx="323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59400" y="4386240"/>
              <a:ext cx="323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59400" y="4048200"/>
              <a:ext cx="323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37240" y="4048200"/>
              <a:ext cx="1800" cy="169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16880" y="4048200"/>
              <a:ext cx="1440" cy="169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696160" y="4048200"/>
              <a:ext cx="1800" cy="169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59400" y="4048200"/>
              <a:ext cx="3236760" cy="16923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59400" y="4048200"/>
              <a:ext cx="1440" cy="169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25920" y="574056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25920" y="540216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25920" y="506412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25920" y="472428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25920" y="438624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25920" y="404820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59400" y="5740560"/>
              <a:ext cx="323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45940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57848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59738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1088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621180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29748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3705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64342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48972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53724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68644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05312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71866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2914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756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45020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5135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5675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6168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79437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813276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82659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836928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84549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852804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859320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8647200" y="5740560"/>
              <a:ext cx="144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696160" y="5740560"/>
              <a:ext cx="180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5459400" y="574056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6537240" y="574056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616880" y="574056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696160" y="574056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5973840" y="4638240"/>
              <a:ext cx="1440" cy="110196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73840" y="4638600"/>
              <a:ext cx="323640" cy="180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7480" y="4638600"/>
              <a:ext cx="1800" cy="110196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629748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297480" y="4890960"/>
            <a:ext cx="1800" cy="849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97480" y="4890960"/>
            <a:ext cx="2588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6320" y="4890960"/>
            <a:ext cx="1800" cy="849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5632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6556320" y="5420880"/>
            <a:ext cx="1800" cy="319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56320" y="542124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72320" y="5421240"/>
            <a:ext cx="1440" cy="319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723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772320" y="5673600"/>
            <a:ext cx="1440" cy="66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72320" y="5673600"/>
            <a:ext cx="2016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73920" y="5673600"/>
            <a:ext cx="1440" cy="66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739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973920" y="5726160"/>
            <a:ext cx="1440" cy="144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973920" y="5726160"/>
            <a:ext cx="2048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78760" y="5726160"/>
            <a:ext cx="1440" cy="144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17876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178760" y="573696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78760" y="5737320"/>
            <a:ext cx="225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404120" y="573732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041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4041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404120" y="5740560"/>
            <a:ext cx="2062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1040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1040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61040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610400" y="5740560"/>
            <a:ext cx="225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8357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8357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8357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35760" y="5740560"/>
            <a:ext cx="2016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0373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0373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03736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037360" y="5740560"/>
            <a:ext cx="2257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26308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26308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26308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263080" y="5740560"/>
            <a:ext cx="244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5075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075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507520" y="57405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507520" y="5740560"/>
            <a:ext cx="1918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702640" y="57405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993920" y="56707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93920" y="53323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93920" y="49942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993920" y="4653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993920" y="4316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93920" y="39783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88120" y="58374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98000" y="58374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18320" y="58374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669160" y="58374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37480" y="600228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135200" y="599292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06840" y="600228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4209840" y="482184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3736800"/>
            <a:ext cx="1096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703200" y="37339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02160" y="927000"/>
            <a:ext cx="1440" cy="525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240" y="3657600"/>
            <a:ext cx="896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240" y="1182600"/>
            <a:ext cx="8958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04920" y="1030320"/>
            <a:ext cx="1440" cy="50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1760" y="1182600"/>
            <a:ext cx="1006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7088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21320" y="1265400"/>
            <a:ext cx="838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6352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35600" y="622440"/>
            <a:ext cx="2289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2120" y="152280"/>
            <a:ext cx="8088480" cy="1346040"/>
            <a:chOff x="762120" y="152280"/>
            <a:chExt cx="8088480" cy="1346040"/>
          </a:xfrm>
        </p:grpSpPr>
        <p:sp>
          <p:nvSpPr>
            <p:cNvPr id="657" name=""/>
            <p:cNvSpPr/>
            <p:nvPr/>
          </p:nvSpPr>
          <p:spPr>
            <a:xfrm>
              <a:off x="762120" y="152280"/>
              <a:ext cx="666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Distribuzione dimensionale del particolato in numer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491520" y="584280"/>
              <a:ext cx="21200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iclo:      TI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          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93680" y="838080"/>
              <a:ext cx="235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asolio: convenzio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553080" y="838080"/>
            <a:ext cx="1219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47760" y="3649680"/>
            <a:ext cx="405612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92320" y="4106880"/>
            <a:ext cx="304632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192320" y="538956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92320" y="5068800"/>
            <a:ext cx="304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92320" y="474660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92320" y="4425840"/>
            <a:ext cx="304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92320" y="410688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06800" y="4106880"/>
            <a:ext cx="1440" cy="160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24160" y="4106880"/>
            <a:ext cx="1800" cy="160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38640" y="4106880"/>
            <a:ext cx="1440" cy="160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192320" y="4106880"/>
            <a:ext cx="3046320" cy="16034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92320" y="4106880"/>
            <a:ext cx="1440" cy="160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158840" y="57103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158840" y="53895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58840" y="506880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7466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42584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10688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92320" y="5710320"/>
            <a:ext cx="304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119232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49688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167652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80504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90188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98108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05092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10996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16072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20680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51460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269064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281952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91636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99880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306540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12408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17484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322416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352908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70836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83364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393372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01328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408132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14180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4194000" y="57103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4238640" y="57103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192320" y="57103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206800" y="57103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224160" y="571032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238640" y="571032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676520" y="5121360"/>
            <a:ext cx="1440" cy="588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5121360"/>
            <a:ext cx="3045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81080" y="5121360"/>
            <a:ext cx="1800" cy="588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81080" y="571032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1981080" y="4664160"/>
            <a:ext cx="1800" cy="1046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81080" y="4664160"/>
            <a:ext cx="2430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24080" y="4664160"/>
            <a:ext cx="1440" cy="1046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2408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224080" y="4950000"/>
            <a:ext cx="1440" cy="760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24080" y="4950000"/>
            <a:ext cx="2048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28920" y="4950000"/>
            <a:ext cx="1440" cy="760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2892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2428920" y="5482800"/>
            <a:ext cx="1440" cy="227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28920" y="5483160"/>
            <a:ext cx="189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617920" y="5483160"/>
            <a:ext cx="1440" cy="227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61792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617920" y="5654160"/>
            <a:ext cx="1440" cy="55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617920" y="5654520"/>
            <a:ext cx="1918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809800" y="5654520"/>
            <a:ext cx="1800" cy="55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09800" y="571032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809800" y="5694480"/>
            <a:ext cx="1800" cy="158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09800" y="5694480"/>
            <a:ext cx="212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22560" y="5694480"/>
            <a:ext cx="1800" cy="158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22560" y="571032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3022560" y="5706720"/>
            <a:ext cx="180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22560" y="5707080"/>
            <a:ext cx="1954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18040" y="570708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2180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180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218040" y="5710320"/>
            <a:ext cx="2142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322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322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3224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32240" y="5710320"/>
            <a:ext cx="185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1800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1800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61800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618000" y="5710320"/>
            <a:ext cx="212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307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307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307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30760" y="5710320"/>
            <a:ext cx="2286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0593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0593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5936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59360" y="5710320"/>
            <a:ext cx="182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45120" y="5710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1400" y="56386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1400" y="53197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1400" y="49989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1400" y="46767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71400" y="4356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1400" y="4035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78560" y="58071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26160" y="58071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93560" y="5807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174200" y="58071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75000" y="60087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23760" y="599904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03320" y="60087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rot="16200000">
            <a:off x="-55440" y="483408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0600" y="3743280"/>
            <a:ext cx="10508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97000" y="1555920"/>
            <a:ext cx="305424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97000" y="2841480"/>
            <a:ext cx="3054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197000" y="2411280"/>
            <a:ext cx="3054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97000" y="1984320"/>
            <a:ext cx="3054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97000" y="1555920"/>
            <a:ext cx="3054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16160" y="1555920"/>
            <a:ext cx="144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233880" y="1555920"/>
            <a:ext cx="144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51240" y="1555920"/>
            <a:ext cx="180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97000" y="1555920"/>
            <a:ext cx="3054240" cy="17128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197000" y="1555920"/>
            <a:ext cx="1440" cy="171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163520" y="32688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63520" y="284148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63520" y="241128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63520" y="198432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63520" y="15559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97000" y="3268800"/>
            <a:ext cx="3054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11970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150480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168264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80972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190800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9908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0574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11788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17008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221616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252396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270036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82888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292572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300816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307512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13704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1878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323388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354168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71808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384660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394344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4025880" y="32688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409248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415440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420516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4251240" y="32688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1197000" y="32688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216160" y="32688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3233880" y="32688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251240" y="32688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1682640" y="2738160"/>
            <a:ext cx="1800" cy="530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682640" y="2738520"/>
            <a:ext cx="3081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990800" y="2738520"/>
            <a:ext cx="1440" cy="530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9080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1990800" y="1972800"/>
            <a:ext cx="1440" cy="12956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990800" y="1973160"/>
            <a:ext cx="2426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33440" y="1973160"/>
            <a:ext cx="1800" cy="12956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33440" y="32688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233440" y="2152800"/>
            <a:ext cx="1800" cy="1116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233440" y="2152800"/>
            <a:ext cx="2048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438280" y="2152800"/>
            <a:ext cx="1800" cy="1116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438280" y="32688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438280" y="3026880"/>
            <a:ext cx="1800" cy="241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38280" y="3027240"/>
            <a:ext cx="189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627280" y="3027240"/>
            <a:ext cx="1800" cy="241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627280" y="32688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2627280" y="3234960"/>
            <a:ext cx="1800" cy="33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27280" y="3235320"/>
            <a:ext cx="1922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19520" y="3235320"/>
            <a:ext cx="1440" cy="33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2819520" y="3255840"/>
            <a:ext cx="1440" cy="12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19520" y="3255840"/>
            <a:ext cx="212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032280" y="3255840"/>
            <a:ext cx="1440" cy="12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3228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3032280" y="326520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32280" y="3265560"/>
            <a:ext cx="198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30640" y="326556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23064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23064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30640" y="3268800"/>
            <a:ext cx="209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4401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4401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401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40160" y="3268800"/>
            <a:ext cx="190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3060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63060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63060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630600" y="3268800"/>
            <a:ext cx="212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433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8433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433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843360" y="3268800"/>
            <a:ext cx="2286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719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719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07196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071960" y="3268800"/>
            <a:ext cx="182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57720" y="32688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77880" y="31989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7880" y="27716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7880" y="23414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7880" y="19144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7880" y="14860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083240" y="33656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5520" y="33656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202920" y="33656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187160" y="33656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75000" y="342108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723760" y="341136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03320" y="342108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16200000">
            <a:off x="-49320" y="233748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599000" y="1290600"/>
            <a:ext cx="4538520" cy="25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64080" y="1582560"/>
            <a:ext cx="31212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64080" y="2944800"/>
            <a:ext cx="31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464080" y="2603520"/>
            <a:ext cx="31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464080" y="2265480"/>
            <a:ext cx="31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64080" y="1924200"/>
            <a:ext cx="3121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464080" y="1582560"/>
            <a:ext cx="3121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504120" y="1582560"/>
            <a:ext cx="1440" cy="17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5240" y="1582560"/>
            <a:ext cx="1800" cy="17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585280" y="1582560"/>
            <a:ext cx="1440" cy="17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464080" y="1582560"/>
            <a:ext cx="3121200" cy="17035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464080" y="1582560"/>
            <a:ext cx="1800" cy="170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430960" y="328608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430960" y="29448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430960" y="26035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30960" y="22654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430960" y="19242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30960" y="15825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64080" y="3286080"/>
            <a:ext cx="3121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4640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7783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9612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60930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619272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62755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3421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6404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6458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65041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68184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70009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71308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72327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73152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7385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74455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749772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54524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78566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80424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81709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82710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83534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842328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84852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85359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858528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546408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504120" y="32857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54524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8585280" y="328572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961240" y="2304720"/>
            <a:ext cx="1440" cy="981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61240" y="2305080"/>
            <a:ext cx="3142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75520" y="2305080"/>
            <a:ext cx="1440" cy="981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27552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6275520" y="2142720"/>
            <a:ext cx="1440" cy="1143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275520" y="2143080"/>
            <a:ext cx="2458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21400" y="2143080"/>
            <a:ext cx="1800" cy="1143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52140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6521400" y="2280960"/>
            <a:ext cx="1800" cy="1004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521400" y="2281320"/>
            <a:ext cx="2113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732720" y="2281320"/>
            <a:ext cx="1440" cy="1004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73272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6732720" y="2752560"/>
            <a:ext cx="1440" cy="533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732720" y="2752560"/>
            <a:ext cx="1951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927840" y="2752560"/>
            <a:ext cx="1440" cy="5335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9278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927840" y="3133440"/>
            <a:ext cx="1440" cy="152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27840" y="3133800"/>
            <a:ext cx="1922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120080" y="3133800"/>
            <a:ext cx="1440" cy="152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1200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7120080" y="3255840"/>
            <a:ext cx="1440" cy="30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120080" y="3255840"/>
            <a:ext cx="2188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38960" y="3255840"/>
            <a:ext cx="1800" cy="30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3389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338960" y="3279600"/>
            <a:ext cx="1800" cy="6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338960" y="3279600"/>
            <a:ext cx="2016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540560" y="3279600"/>
            <a:ext cx="1800" cy="6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5405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5405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540560" y="328608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7565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7565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7565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756560" y="3286080"/>
            <a:ext cx="1951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95168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95168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5168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51680" y="328608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1676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1676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1676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167680" y="3286080"/>
            <a:ext cx="2350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402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402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402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402760" y="328608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59140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944960" y="32162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944960" y="28749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944960" y="25336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944960" y="21956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944960" y="18543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44960" y="15127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350320" y="33847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423480" y="33847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514640" y="33847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520840" y="33847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792840" y="34545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43400" y="344484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122960" y="34545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00000">
            <a:off x="4215960" y="235980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99000" y="3649680"/>
            <a:ext cx="454176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460840" y="4106880"/>
            <a:ext cx="314676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460840" y="5380200"/>
            <a:ext cx="314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60840" y="5064120"/>
            <a:ext cx="314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460840" y="4743360"/>
            <a:ext cx="3146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460840" y="4425840"/>
            <a:ext cx="3146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460840" y="4106880"/>
            <a:ext cx="314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510240" y="4106880"/>
            <a:ext cx="1800" cy="159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558200" y="4106880"/>
            <a:ext cx="1440" cy="159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607600" y="4106880"/>
            <a:ext cx="1440" cy="159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460840" y="4106880"/>
            <a:ext cx="3146760" cy="1593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460840" y="4106880"/>
            <a:ext cx="1800" cy="159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427720" y="570060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427720" y="53802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427720" y="50641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27720" y="4743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427720" y="44258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427720" y="41068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460840" y="5700600"/>
            <a:ext cx="3146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46084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77836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96124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60930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619272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27840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634824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640872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646128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651024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682632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701028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71406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724212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732636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73962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745812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750888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75582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787572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805824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81900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829008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837576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84456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8505720" y="570060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855828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8607600" y="570060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5460840" y="570024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6510240" y="570024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7558200" y="570024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607600" y="570024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5961240" y="4517640"/>
            <a:ext cx="1440" cy="118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961240" y="4518000"/>
            <a:ext cx="3171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78400" y="4518000"/>
            <a:ext cx="1800" cy="118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27840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6278400" y="4530600"/>
            <a:ext cx="1800" cy="1170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278400" y="4530600"/>
            <a:ext cx="2494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527880" y="4530600"/>
            <a:ext cx="1440" cy="11700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278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6527880" y="5249880"/>
            <a:ext cx="1440" cy="4507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527880" y="5249880"/>
            <a:ext cx="2109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38840" y="5249880"/>
            <a:ext cx="1800" cy="4507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73884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6738840" y="5608440"/>
            <a:ext cx="1800" cy="9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738840" y="5608800"/>
            <a:ext cx="1954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934320" y="5608800"/>
            <a:ext cx="1440" cy="9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93432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6934320" y="5681160"/>
            <a:ext cx="1440" cy="190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934320" y="5681520"/>
            <a:ext cx="1965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130880" y="5681520"/>
            <a:ext cx="1800" cy="190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13088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7130880" y="5694120"/>
            <a:ext cx="1800" cy="6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130880" y="5694480"/>
            <a:ext cx="2206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51560" y="5694480"/>
            <a:ext cx="1800" cy="6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5156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7351560" y="5697000"/>
            <a:ext cx="180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351560" y="5697360"/>
            <a:ext cx="2001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551720" y="5697360"/>
            <a:ext cx="1440" cy="3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5172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55172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551720" y="5700600"/>
            <a:ext cx="220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77240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77240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77240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772400" y="5700600"/>
            <a:ext cx="193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9660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9660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9660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966080" y="5700600"/>
            <a:ext cx="220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18676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818676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18676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186760" y="5700600"/>
            <a:ext cx="2332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842004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42004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420040" y="57006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8420040" y="5700600"/>
            <a:ext cx="190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612280" y="57006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995720" y="56307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95720" y="53103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995720" y="49928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95720" y="46735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95720" y="43560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.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995720" y="40356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388120" y="57974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467760" y="57974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559640" y="57974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577000" y="57974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792840" y="60087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093440" y="599904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162200" y="60087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16200000">
            <a:off x="4213080" y="482976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48320" y="3765600"/>
            <a:ext cx="10508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546440" y="917640"/>
            <a:ext cx="1800" cy="527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480" y="3654360"/>
            <a:ext cx="9030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0480" y="1125360"/>
            <a:ext cx="89722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5200" y="1003320"/>
            <a:ext cx="1800" cy="512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20840" y="1238400"/>
            <a:ext cx="1042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797360" y="1238400"/>
            <a:ext cx="1041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799320" y="631800"/>
            <a:ext cx="2289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09480" y="152280"/>
            <a:ext cx="7162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stribuzione dimensionale del particolato in nume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375240" y="584280"/>
            <a:ext cx="21337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iclo:      EC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377760" y="838080"/>
            <a:ext cx="235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asolio: conven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321640" y="37591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703200" y="37339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27088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56352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343080" y="3648240"/>
            <a:ext cx="403848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155600" y="4059360"/>
            <a:ext cx="309096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155600" y="549288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155600" y="513396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155600" y="4775040"/>
            <a:ext cx="3090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155600" y="441648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155600" y="405936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185920" y="4059360"/>
            <a:ext cx="1800" cy="17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18040" y="4059360"/>
            <a:ext cx="1440" cy="17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246560" y="4059360"/>
            <a:ext cx="1440" cy="17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155600" y="4059360"/>
            <a:ext cx="3090960" cy="17906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155600" y="4059360"/>
            <a:ext cx="1800" cy="17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122480" y="58500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122480" y="54928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122480" y="51339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122480" y="4775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122480" y="44164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122480" y="4059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55600" y="5850000"/>
            <a:ext cx="309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115560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146520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16477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7762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8763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195912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20271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20858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840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21859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24969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26780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28065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29066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29876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30560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31179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31701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32180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35272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37083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38368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39387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0179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08780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1464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42004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42465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1155600" y="58500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185920" y="58500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3218040" y="58500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4246560" y="58500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1647720" y="5273280"/>
            <a:ext cx="1800" cy="576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647720" y="5273640"/>
            <a:ext cx="3114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959120" y="5273640"/>
            <a:ext cx="1440" cy="5763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95912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1959120" y="4667040"/>
            <a:ext cx="1440" cy="118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959120" y="4667400"/>
            <a:ext cx="244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203560" y="4667400"/>
            <a:ext cx="1440" cy="118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20356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2203560" y="4684320"/>
            <a:ext cx="1440" cy="1165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203560" y="4684680"/>
            <a:ext cx="2062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09840" y="4684680"/>
            <a:ext cx="1440" cy="1165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0984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2409840" y="5440320"/>
            <a:ext cx="1440" cy="4096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409840" y="5440320"/>
            <a:ext cx="193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603520" y="5440320"/>
            <a:ext cx="1440" cy="4096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60352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2603520" y="5746320"/>
            <a:ext cx="1440" cy="103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603520" y="5746680"/>
            <a:ext cx="193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797200" y="5746680"/>
            <a:ext cx="1440" cy="103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7972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797200" y="5824080"/>
            <a:ext cx="1440" cy="25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797200" y="5824440"/>
            <a:ext cx="217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014640" y="5824440"/>
            <a:ext cx="1440" cy="25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01464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014640" y="5844960"/>
            <a:ext cx="1440" cy="46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14640" y="5845320"/>
            <a:ext cx="198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213000" y="5845320"/>
            <a:ext cx="1800" cy="46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1300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213000" y="58478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213000" y="5848200"/>
            <a:ext cx="2145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427560" y="584820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2756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2756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427560" y="5850000"/>
            <a:ext cx="190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6180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6180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6180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618000" y="5850000"/>
            <a:ext cx="215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336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8336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336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33640" y="5850000"/>
            <a:ext cx="233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06728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06728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06728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067280" y="5850000"/>
            <a:ext cx="1807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25304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52320" y="5783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52320" y="54259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52320" y="50655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52320" y="47084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52320" y="43498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52320" y="3992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046520" y="59436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107080" y="5943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187080" y="5943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83920" y="59436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467080" y="601344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711160" y="600408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781000" y="601344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rot="16200000">
            <a:off x="-69840" y="485208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95280" y="3741840"/>
            <a:ext cx="10224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154160" y="1596960"/>
            <a:ext cx="30924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154160" y="302112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154160" y="2736720"/>
            <a:ext cx="3092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54160" y="245124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154160" y="216540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154160" y="188136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154160" y="1596960"/>
            <a:ext cx="3092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185920" y="159696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16240" y="159696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246560" y="1596960"/>
            <a:ext cx="144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54160" y="1596960"/>
            <a:ext cx="3092400" cy="1708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154160" y="1596960"/>
            <a:ext cx="144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20680" y="33051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120680" y="302112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120680" y="273672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120680" y="245124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120680" y="216540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120680" y="1881360"/>
            <a:ext cx="3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120680" y="1596960"/>
            <a:ext cx="3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154160" y="3305160"/>
            <a:ext cx="3092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115416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146520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164628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177480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187488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195732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202572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20858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213840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218592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249552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26780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280656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29066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9876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305604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311616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316872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321624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352728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370836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83688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93696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401796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408780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414648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4200480" y="3304800"/>
            <a:ext cx="180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4246560" y="3304800"/>
            <a:ext cx="14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154160" y="330480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2185920" y="330480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3216240" y="330480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4246560" y="330480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1646280" y="2801880"/>
            <a:ext cx="1440" cy="503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646280" y="2801880"/>
            <a:ext cx="3110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957320" y="2801880"/>
            <a:ext cx="1800" cy="503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95732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1957320" y="2153880"/>
            <a:ext cx="1800" cy="1150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957320" y="2154240"/>
            <a:ext cx="244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201760" y="2154240"/>
            <a:ext cx="1800" cy="1150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20176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2201760" y="1901880"/>
            <a:ext cx="1800" cy="1403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201760" y="1901880"/>
            <a:ext cx="206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408400" y="1901880"/>
            <a:ext cx="1440" cy="1403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4084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2408400" y="2855880"/>
            <a:ext cx="1440" cy="449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408400" y="2855880"/>
            <a:ext cx="1951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603520" y="2855880"/>
            <a:ext cx="1440" cy="449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60352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2603520" y="3233880"/>
            <a:ext cx="1440" cy="71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603520" y="3233880"/>
            <a:ext cx="1922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795760" y="3233880"/>
            <a:ext cx="1440" cy="71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79576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2795760" y="3281400"/>
            <a:ext cx="1440" cy="23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795760" y="3281400"/>
            <a:ext cx="217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013200" y="3281400"/>
            <a:ext cx="1440" cy="23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0132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3013200" y="3297240"/>
            <a:ext cx="1440" cy="7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013200" y="3297240"/>
            <a:ext cx="1983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211560" y="3297240"/>
            <a:ext cx="1440" cy="7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21156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211560" y="33037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11560" y="3303720"/>
            <a:ext cx="2160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427560" y="33037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42756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42756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427560" y="3305160"/>
            <a:ext cx="190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180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6180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61800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18000" y="3305160"/>
            <a:ext cx="215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83364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364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3364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33640" y="3305160"/>
            <a:ext cx="2318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06548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06548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065480" y="330516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065480" y="3305160"/>
            <a:ext cx="182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253040" y="330516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50880" y="32385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50880" y="29541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50880" y="26701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50880" y="23842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0880" y="20988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50880" y="1814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50880" y="15303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045080" y="3400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107080" y="34005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185640" y="34005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83920" y="34005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455920" y="344664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701440" y="343836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771640" y="344664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rot="16200000">
            <a:off x="-71280" y="2348640"/>
            <a:ext cx="11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78480" y="1292400"/>
            <a:ext cx="451620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405400" y="1577880"/>
            <a:ext cx="31194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405400" y="2944800"/>
            <a:ext cx="311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405400" y="2602080"/>
            <a:ext cx="311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05400" y="2262240"/>
            <a:ext cx="311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05400" y="1919160"/>
            <a:ext cx="311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405400" y="1577880"/>
            <a:ext cx="311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445080" y="157788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486560" y="157788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8524800" y="157788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405400" y="1577880"/>
            <a:ext cx="3119400" cy="1708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405400" y="1577880"/>
            <a:ext cx="1800" cy="1708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372280" y="328608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372280" y="29448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372280" y="260208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372280" y="22622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372280" y="19191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372280" y="157788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05400" y="3286080"/>
            <a:ext cx="3119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540540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57182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590220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60325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61326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6215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62848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63453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63975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64450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67597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694044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707220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717228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725472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73245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738504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74376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74865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77979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798192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811044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821196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829476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836460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842472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8477280" y="3285720"/>
            <a:ext cx="144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8524800" y="3285720"/>
            <a:ext cx="180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540540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644508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748656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8524800" y="328572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5902200" y="2814480"/>
            <a:ext cx="1800" cy="471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902200" y="2814480"/>
            <a:ext cx="3128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215040" y="2814480"/>
            <a:ext cx="1440" cy="471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2150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6215040" y="2274480"/>
            <a:ext cx="1440" cy="1011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215040" y="2274840"/>
            <a:ext cx="247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62720" y="2274840"/>
            <a:ext cx="1440" cy="10112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46272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6462720" y="1848960"/>
            <a:ext cx="1440" cy="1436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462720" y="1849320"/>
            <a:ext cx="2080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670800" y="1849320"/>
            <a:ext cx="1440" cy="1436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67080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6670800" y="2190240"/>
            <a:ext cx="1440" cy="1095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670800" y="2190600"/>
            <a:ext cx="1965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67360" y="2190600"/>
            <a:ext cx="1800" cy="10954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673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6867360" y="2908080"/>
            <a:ext cx="1800" cy="3776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867360" y="2908440"/>
            <a:ext cx="1936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061040" y="2908440"/>
            <a:ext cx="1800" cy="3776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06104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7061040" y="3206880"/>
            <a:ext cx="1800" cy="792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061040" y="3206880"/>
            <a:ext cx="2206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281720" y="3206880"/>
            <a:ext cx="1800" cy="792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28172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7281720" y="3273120"/>
            <a:ext cx="1800" cy="1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281720" y="3273480"/>
            <a:ext cx="2001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481880" y="3273480"/>
            <a:ext cx="1440" cy="12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4818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7481880" y="32846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481880" y="3284640"/>
            <a:ext cx="2160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697880" y="32846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6978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6978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697880" y="3286080"/>
            <a:ext cx="1918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8897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8897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889760" y="328608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889760" y="328608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8105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8105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810576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105760" y="3286080"/>
            <a:ext cx="2350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83408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83408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834084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8340840" y="3286080"/>
            <a:ext cx="18576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531280" y="32860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902120" y="32194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902120" y="28782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902120" y="253512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902120" y="21938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902120" y="185256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902120" y="15112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298120" y="33796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366240" y="33796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454160" y="337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462160" y="337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738840" y="344016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984720" y="343044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054560" y="344016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rot="16200000">
            <a:off x="4248360" y="2345400"/>
            <a:ext cx="1070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578480" y="3648240"/>
            <a:ext cx="451800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398920" y="4078440"/>
            <a:ext cx="313236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398920" y="555480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398920" y="5259240"/>
            <a:ext cx="3132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398920" y="4964040"/>
            <a:ext cx="3132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398920" y="466884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398920" y="437364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398920" y="407844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442200" y="4078440"/>
            <a:ext cx="1440" cy="177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486560" y="4078440"/>
            <a:ext cx="1800" cy="177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531280" y="4078440"/>
            <a:ext cx="1440" cy="177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98920" y="4078440"/>
            <a:ext cx="3132360" cy="17715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398920" y="4078440"/>
            <a:ext cx="1800" cy="177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365800" y="58500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365800" y="555480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365800" y="52592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365800" y="4964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365800" y="46688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365800" y="43736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365800" y="407844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398920" y="5850000"/>
            <a:ext cx="313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53989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57135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589608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60260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612792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621180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62816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634212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63943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44220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67579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9404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707220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17228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725472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73245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73850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74390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748656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7800840" y="585000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79851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811548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821700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829944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836928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84297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848376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8531280" y="585000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5398920" y="58500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6442200" y="58500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7486560" y="5850000"/>
            <a:ext cx="180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8531280" y="5850000"/>
            <a:ext cx="144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5896080" y="4322880"/>
            <a:ext cx="1440" cy="1527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896080" y="4322880"/>
            <a:ext cx="3157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211800" y="4322880"/>
            <a:ext cx="1800" cy="15271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21180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6211800" y="4116240"/>
            <a:ext cx="1800" cy="1733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211800" y="4116240"/>
            <a:ext cx="2494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61280" y="4116240"/>
            <a:ext cx="1440" cy="17337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46128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6461280" y="4941360"/>
            <a:ext cx="1440" cy="908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461280" y="4941720"/>
            <a:ext cx="2077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669000" y="4941720"/>
            <a:ext cx="1800" cy="90828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66900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6669000" y="5554800"/>
            <a:ext cx="1800" cy="2952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669000" y="5554800"/>
            <a:ext cx="1969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65920" y="5554800"/>
            <a:ext cx="1440" cy="2952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6592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6865920" y="5770080"/>
            <a:ext cx="1440" cy="79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65920" y="5770440"/>
            <a:ext cx="19512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061040" y="5770440"/>
            <a:ext cx="1800" cy="795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0610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7061040" y="5827680"/>
            <a:ext cx="1800" cy="22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061040" y="5827680"/>
            <a:ext cx="22068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81720" y="5827680"/>
            <a:ext cx="1800" cy="223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8172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7281720" y="5842080"/>
            <a:ext cx="1800" cy="7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81720" y="5842080"/>
            <a:ext cx="2016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483320" y="5842080"/>
            <a:ext cx="1800" cy="792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48332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7483320" y="584784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483320" y="5848200"/>
            <a:ext cx="2160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699320" y="5848200"/>
            <a:ext cx="180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69932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69932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699320" y="5850000"/>
            <a:ext cx="19548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8948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8948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894800" y="585000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894800" y="5850000"/>
            <a:ext cx="2156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1104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81104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11044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8110440" y="5850000"/>
            <a:ext cx="23652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34696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834696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834696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8346960" y="5850000"/>
            <a:ext cx="18576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537400" y="5850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919400" y="578340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E+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919400" y="54878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,0E+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919400" y="51926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919400" y="48974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,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919400" y="46022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919400" y="430704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,5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919400" y="4011480"/>
            <a:ext cx="4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,0E+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315400" y="59436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388560" y="5943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7481160" y="5943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8493840" y="59436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729480" y="601344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Dp [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014600" y="600408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074360" y="6013440"/>
            <a:ext cx="1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rot="16200000">
            <a:off x="4238640" y="4879440"/>
            <a:ext cx="1070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dN/dLogDp  [part/s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32200" y="3762360"/>
            <a:ext cx="10224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527720" y="920880"/>
            <a:ext cx="1440" cy="526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8680" y="3657600"/>
            <a:ext cx="899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8680" y="1128600"/>
            <a:ext cx="89344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91960" y="1008000"/>
            <a:ext cx="1800" cy="51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15800" y="1252440"/>
            <a:ext cx="1043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703760" y="1252440"/>
            <a:ext cx="10350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0" y="625320"/>
            <a:ext cx="2287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685800" y="152280"/>
            <a:ext cx="8125200" cy="1346040"/>
            <a:chOff x="685800" y="152280"/>
            <a:chExt cx="8125200" cy="1346040"/>
          </a:xfrm>
        </p:grpSpPr>
        <p:sp>
          <p:nvSpPr>
            <p:cNvPr id="1585" name=""/>
            <p:cNvSpPr/>
            <p:nvPr/>
          </p:nvSpPr>
          <p:spPr>
            <a:xfrm>
              <a:off x="685800" y="152280"/>
              <a:ext cx="670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Distribuzione dimensionale del particolato in numer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451560" y="584280"/>
              <a:ext cx="21337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iclo:      EUDC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      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54080" y="838080"/>
              <a:ext cx="235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asolio: convenzio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"/>
          <p:cNvSpPr/>
          <p:nvPr/>
        </p:nvSpPr>
        <p:spPr>
          <a:xfrm>
            <a:off x="6477120" y="838080"/>
            <a:ext cx="16002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321640" y="37591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3200" y="373392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27088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563520" y="125748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icol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3352680" y="228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 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6781680" cy="5610240"/>
          </a:xfrm>
          <a:prstGeom prst="rect">
            <a:avLst/>
          </a:prstGeom>
          <a:ln w="0">
            <a:noFill/>
          </a:ln>
        </p:spPr>
      </p:pic>
      <p:sp>
        <p:nvSpPr>
          <p:cNvPr id="1595" name=""/>
          <p:cNvSpPr/>
          <p:nvPr/>
        </p:nvSpPr>
        <p:spPr>
          <a:xfrm>
            <a:off x="304920" y="1523880"/>
            <a:ext cx="175248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M &lt; 1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04920" y="3276720"/>
            <a:ext cx="1676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M &lt; 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0" y="5334120"/>
            <a:ext cx="23623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 &lt; PM &lt; 10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724280" y="2895480"/>
            <a:ext cx="1067040" cy="533520"/>
          </a:xfrm>
          <a:prstGeom prst="ellipse">
            <a:avLst/>
          </a:prstGeom>
          <a:noFill/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543800" y="685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icol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3276720" y="3429000"/>
            <a:ext cx="2057400" cy="1816200"/>
            <a:chOff x="3276720" y="3429000"/>
            <a:chExt cx="2057400" cy="1816200"/>
          </a:xfrm>
        </p:grpSpPr>
        <p:sp>
          <p:nvSpPr>
            <p:cNvPr id="1601" name=""/>
            <p:cNvSpPr/>
            <p:nvPr/>
          </p:nvSpPr>
          <p:spPr>
            <a:xfrm flipH="1">
              <a:off x="4343040" y="3429000"/>
              <a:ext cx="685800" cy="914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276720" y="4419720"/>
              <a:ext cx="2057400" cy="825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 %           P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3" name=""/>
          <p:cNvSpPr/>
          <p:nvPr/>
        </p:nvSpPr>
        <p:spPr>
          <a:xfrm>
            <a:off x="1752480" y="685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N/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4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6629400" cy="5867640"/>
          </a:xfrm>
          <a:prstGeom prst="rect">
            <a:avLst/>
          </a:prstGeom>
          <a:ln w="0">
            <a:noFill/>
          </a:ln>
        </p:spPr>
      </p:pic>
      <p:sp>
        <p:nvSpPr>
          <p:cNvPr id="1605" name=""/>
          <p:cNvSpPr/>
          <p:nvPr/>
        </p:nvSpPr>
        <p:spPr>
          <a:xfrm>
            <a:off x="7315200" y="4572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icol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648320" y="2819520"/>
            <a:ext cx="1066680" cy="533160"/>
          </a:xfrm>
          <a:prstGeom prst="ellipse">
            <a:avLst/>
          </a:prstGeom>
          <a:noFill/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2971800" y="3429000"/>
            <a:ext cx="2057400" cy="1816200"/>
            <a:chOff x="2971800" y="3429000"/>
            <a:chExt cx="2057400" cy="1816200"/>
          </a:xfrm>
        </p:grpSpPr>
        <p:sp>
          <p:nvSpPr>
            <p:cNvPr id="1608" name=""/>
            <p:cNvSpPr/>
            <p:nvPr/>
          </p:nvSpPr>
          <p:spPr>
            <a:xfrm flipH="1">
              <a:off x="4038120" y="3429000"/>
              <a:ext cx="685800" cy="914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971800" y="4419720"/>
              <a:ext cx="2057400" cy="825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 %           P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304920" y="1523880"/>
            <a:ext cx="175248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M &lt; 1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04920" y="3276720"/>
            <a:ext cx="1676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M &lt; 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0" y="5334120"/>
            <a:ext cx="23623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 &lt; PM &lt; 10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352680" y="228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 P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457200" y="533520"/>
            <a:ext cx="80010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PRINCIPALI CONCLUSION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’emissione in numero di particelle per km percorso del  PM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misurata nello scarico dei quattro autoveicoli diesel provati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è diminuita in modo sensibile man mano che il livello tecnologico degli autoveicoli aument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tendeva a diminuire leggermente con la velocità media per i modelli più recenti e in modo sensibile per quello omologato Euro 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ipendeva dalle condizioni di guida dell’autoveicolo (velocità, accelerazion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ha presentato una distribuzione dimensionale log-normale centrata all’interno di diametri aerodinamici compresi tra 40 e 130 n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uò essere classificata come PM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e non come PM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304920"/>
            <a:ext cx="70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ETTO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UMI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                             (Il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rticolato fine nell’atmosfer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ban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lan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981080"/>
            <a:ext cx="58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ENTI PROMOTORI E FINANZIATOR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048120"/>
            <a:ext cx="7239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DAZIONE LOMBARDIA PER L’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E LOMBAR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E DI MI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PA LOMBAR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905120" y="2743200"/>
            <a:ext cx="5486400" cy="3352320"/>
            <a:chOff x="1905120" y="2743200"/>
            <a:chExt cx="5486400" cy="3352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905120" y="4628880"/>
              <a:ext cx="5486400" cy="14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4904280" y="2743200"/>
              <a:ext cx="1624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2636640" y="2743200"/>
              <a:ext cx="1295280" cy="174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914400" y="166356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PARTECIPANTI AL PROGRAMMA SPERIMENTALE  DEL PLG 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04920"/>
            <a:ext cx="70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ETTO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UMI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                             (Il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rticolato fine nell’atmosfer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ban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lan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5238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IETTIVI DEL PGL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00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levare i dati di emissione da sorgenti primarie rappresentative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nti mobi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iscaldamento civile, centrali termoelettriche e incenerito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72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tterizzazione dimensionale,  chimica  e morfologica della frazione P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 particolato emesso dagli autovei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981080"/>
            <a:ext cx="79250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eterminazione dei Fattori di Emissione e Raccolta del Particolato Atmosferico delle sorgenti di combustion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304920"/>
            <a:ext cx="7086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GETTO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UMI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                             (Il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rticolato fine nell’atmosfer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bana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lan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533520"/>
            <a:ext cx="55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TOVEICOLI DI PRO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14400" y="1523880"/>
          <a:ext cx="7162920" cy="44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16292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360" y="1325520"/>
            <a:ext cx="8839440" cy="5121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59600" y="4756320"/>
            <a:ext cx="1371600" cy="960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19320" y="888840"/>
            <a:ext cx="7238880" cy="318960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0" y="1522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STEMA 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AMPIONAMEN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NALIS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DELLE EMISSIONI INQUINA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4076640"/>
          <a:ext cx="5311800" cy="255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76640"/>
                    <a:ext cx="531180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8839080" cy="4552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57400" y="3795840"/>
            <a:ext cx="1676520" cy="9144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4894200"/>
            <a:ext cx="1600200" cy="12193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22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STEMA 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AMPIONAMEN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NALIS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DELLE EMISSIONI INQUINA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514600" y="990720"/>
            <a:ext cx="6477120" cy="3533760"/>
            <a:chOff x="2514600" y="990720"/>
            <a:chExt cx="6477120" cy="3533760"/>
          </a:xfrm>
        </p:grpSpPr>
        <p:grpSp>
          <p:nvGrpSpPr>
            <p:cNvPr id="77" name=""/>
            <p:cNvGrpSpPr/>
            <p:nvPr/>
          </p:nvGrpSpPr>
          <p:grpSpPr>
            <a:xfrm>
              <a:off x="3429000" y="990720"/>
              <a:ext cx="5562720" cy="3533760"/>
              <a:chOff x="3429000" y="990720"/>
              <a:chExt cx="5562720" cy="3533760"/>
            </a:xfrm>
          </p:grpSpPr>
          <p:pic>
            <p:nvPicPr>
              <p:cNvPr id="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990720"/>
                <a:ext cx="5486400" cy="3533760"/>
              </a:xfrm>
              <a:prstGeom prst="rect">
                <a:avLst/>
              </a:prstGeom>
              <a:ln w="19080">
                <a:solidFill>
                  <a:srgbClr val="ff9900"/>
                </a:solidFill>
                <a:miter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4800600" y="1066680"/>
                <a:ext cx="419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ELPI (</a:t>
                </a:r>
                <a:r>
                  <a:rPr b="0" lang="it-IT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lectrical </a:t>
                </a:r>
                <a:r>
                  <a:rPr b="0" lang="it-IT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L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ow </a:t>
                </a:r>
                <a:r>
                  <a:rPr b="0" lang="it-IT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ressure </a:t>
                </a:r>
                <a:r>
                  <a:rPr b="0" lang="it-IT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mpacto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514600" y="3124080"/>
              <a:ext cx="838080" cy="609840"/>
              <a:chOff x="2514600" y="3124080"/>
              <a:chExt cx="838080" cy="609840"/>
            </a:xfrm>
          </p:grpSpPr>
          <p:sp>
            <p:nvSpPr>
              <p:cNvPr id="81" name=""/>
              <p:cNvSpPr/>
              <p:nvPr/>
            </p:nvSpPr>
            <p:spPr>
              <a:xfrm>
                <a:off x="2514600" y="3124080"/>
                <a:ext cx="8380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14600" y="3124080"/>
                <a:ext cx="0" cy="609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4038480" y="3530520"/>
            <a:ext cx="3454560" cy="2489400"/>
            <a:chOff x="4038480" y="3530520"/>
            <a:chExt cx="3454560" cy="2489400"/>
          </a:xfrm>
        </p:grpSpPr>
        <p:sp>
          <p:nvSpPr>
            <p:cNvPr id="84" name=""/>
            <p:cNvSpPr/>
            <p:nvPr/>
          </p:nvSpPr>
          <p:spPr>
            <a:xfrm flipV="1">
              <a:off x="4038480" y="4419360"/>
              <a:ext cx="1295640" cy="6858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5486400" y="3581280"/>
              <a:ext cx="1886040" cy="2438640"/>
            </a:xfrm>
            <a:prstGeom prst="rect">
              <a:avLst/>
            </a:prstGeom>
            <a:ln w="25560">
              <a:solidFill>
                <a:srgbClr val="ff9900"/>
              </a:solidFill>
              <a:miter/>
            </a:ln>
          </p:spPr>
        </p:pic>
        <p:sp>
          <p:nvSpPr>
            <p:cNvPr id="86" name=""/>
            <p:cNvSpPr/>
            <p:nvPr/>
          </p:nvSpPr>
          <p:spPr>
            <a:xfrm>
              <a:off x="5587920" y="35305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ICLONE PM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41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AZIONE GRAVIMETRICA DEL P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mg/k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7848720" cy="58294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705720" y="3886200"/>
            <a:ext cx="1828800" cy="2315520"/>
            <a:chOff x="6705720" y="3886200"/>
            <a:chExt cx="1828800" cy="2315520"/>
          </a:xfrm>
        </p:grpSpPr>
        <p:sp>
          <p:nvSpPr>
            <p:cNvPr id="90" name=""/>
            <p:cNvSpPr/>
            <p:nvPr/>
          </p:nvSpPr>
          <p:spPr>
            <a:xfrm>
              <a:off x="6705720" y="3886200"/>
              <a:ext cx="1752480" cy="198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4012200"/>
              <a:ext cx="182880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ff7c80"/>
                  </a:solidFill>
                  <a:latin typeface="Times New Roman"/>
                </a:rPr>
                <a:t>A = diesel Euro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ffcc99"/>
                  </a:solidFill>
                  <a:latin typeface="Times New Roman"/>
                </a:rPr>
                <a:t>B = diesel Euro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009900"/>
                  </a:solidFill>
                  <a:latin typeface="Times New Roman"/>
                </a:rPr>
                <a:t>C = diesel Euro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3333cc"/>
                  </a:solidFill>
                  <a:latin typeface="Times New Roman"/>
                </a:rPr>
                <a:t>D = diesel Euro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61520" y="990720"/>
            <a:ext cx="1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30720" y="985680"/>
            <a:ext cx="201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7640" y="12207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67640" y="15210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67640" y="18367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67640" y="21286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21480" y="1276200"/>
            <a:ext cx="2998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08520" y="1528920"/>
            <a:ext cx="5000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08520" y="1798560"/>
            <a:ext cx="1027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81080" y="990720"/>
            <a:ext cx="4952880" cy="1155600"/>
            <a:chOff x="1981080" y="990720"/>
            <a:chExt cx="4952880" cy="1155600"/>
          </a:xfrm>
        </p:grpSpPr>
        <p:sp>
          <p:nvSpPr>
            <p:cNvPr id="102" name=""/>
            <p:cNvSpPr/>
            <p:nvPr/>
          </p:nvSpPr>
          <p:spPr>
            <a:xfrm>
              <a:off x="1981080" y="990720"/>
              <a:ext cx="4952880" cy="11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5640" y="1143000"/>
              <a:ext cx="91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VEIC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76080" y="990720"/>
              <a:ext cx="138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ICLO DI GU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24520" y="1459080"/>
              <a:ext cx="465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82080" y="1459080"/>
              <a:ext cx="32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B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25240" y="1776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07400" y="1776240"/>
              <a:ext cx="281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80"/>
                  </a:solidFill>
                  <a:latin typeface="Arial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87120" y="17762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43400" y="1874880"/>
              <a:ext cx="156960" cy="144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5760" y="1303200"/>
              <a:ext cx="174600" cy="16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00560" y="1541520"/>
              <a:ext cx="225360" cy="187200"/>
            </a:xfrm>
            <a:custGeom>
              <a:avLst/>
              <a:gdLst/>
              <a:ahLst/>
              <a:rect l="l" t="t" r="r" b="b"/>
              <a:pathLst>
                <a:path w="142" h="118">
                  <a:moveTo>
                    <a:pt x="71" y="0"/>
                  </a:moveTo>
                  <a:lnTo>
                    <a:pt x="0" y="118"/>
                  </a:lnTo>
                  <a:lnTo>
                    <a:pt x="142" y="11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49760" y="125748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1550880"/>
              <a:ext cx="43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1280" y="183204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U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14300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ZIONE EMISSIONE IN NUMERO/MA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458200" cy="42228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400800" y="2514600"/>
            <a:ext cx="1905120" cy="2819160"/>
            <a:chOff x="6400800" y="2514600"/>
            <a:chExt cx="1905120" cy="2819160"/>
          </a:xfrm>
        </p:grpSpPr>
        <p:sp>
          <p:nvSpPr>
            <p:cNvPr id="119" name=""/>
            <p:cNvSpPr/>
            <p:nvPr/>
          </p:nvSpPr>
          <p:spPr>
            <a:xfrm>
              <a:off x="6400800" y="2819160"/>
              <a:ext cx="1905120" cy="2514600"/>
            </a:xfrm>
            <a:custGeom>
              <a:avLst/>
              <a:gdLst>
                <a:gd name="textAreaLeft" fmla="*/ 92880 w 1905120"/>
                <a:gd name="textAreaRight" fmla="*/ 1812240 w 1905120"/>
                <a:gd name="textAreaTop" fmla="*/ 92880 h 2514600"/>
                <a:gd name="textAreaBottom" fmla="*/ 2421720 h 2514600"/>
              </a:gdLst>
              <a:ahLst/>
              <a:rect l="textAreaLeft" t="textAreaTop" r="textAreaRight" b="textAreaBottom"/>
              <a:pathLst>
                <a:path w="21600" h="28509">
                  <a:moveTo>
                    <a:pt x="3600" y="0"/>
                  </a:moveTo>
                  <a:arcTo wR="3600" hR="3600" stAng="16200000" swAng="-5400000"/>
                  <a:lnTo>
                    <a:pt x="0" y="24909"/>
                  </a:lnTo>
                  <a:arcTo wR="3600" hR="3600" stAng="10800000" swAng="-5400000"/>
                  <a:lnTo>
                    <a:pt x="18000" y="28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255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251460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EURO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91120" y="4876920"/>
            <a:ext cx="1447560" cy="748800"/>
            <a:chOff x="4191120" y="4876920"/>
            <a:chExt cx="1447560" cy="748800"/>
          </a:xfrm>
        </p:grpSpPr>
        <p:sp>
          <p:nvSpPr>
            <p:cNvPr id="122" name=""/>
            <p:cNvSpPr/>
            <p:nvPr/>
          </p:nvSpPr>
          <p:spPr>
            <a:xfrm>
              <a:off x="4191120" y="5168880"/>
              <a:ext cx="1447560" cy="456840"/>
            </a:xfrm>
            <a:prstGeom prst="roundRect">
              <a:avLst>
                <a:gd name="adj" fmla="val 16667"/>
              </a:avLst>
            </a:prstGeom>
            <a:noFill/>
            <a:ln cap="rnd" w="2556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360" y="4876920"/>
              <a:ext cx="114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imes New Roman"/>
                </a:rPr>
                <a:t>EURO 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514600" y="4952880"/>
            <a:ext cx="1447920" cy="736560"/>
            <a:chOff x="2514600" y="4952880"/>
            <a:chExt cx="1447920" cy="736560"/>
          </a:xfrm>
        </p:grpSpPr>
        <p:sp>
          <p:nvSpPr>
            <p:cNvPr id="125" name=""/>
            <p:cNvSpPr/>
            <p:nvPr/>
          </p:nvSpPr>
          <p:spPr>
            <a:xfrm>
              <a:off x="2514600" y="5232240"/>
              <a:ext cx="1447920" cy="457200"/>
            </a:xfrm>
            <a:prstGeom prst="roundRect">
              <a:avLst>
                <a:gd name="adj" fmla="val 16667"/>
              </a:avLst>
            </a:prstGeom>
            <a:noFill/>
            <a:ln cap="rnd" w="255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29080" y="49528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Times New Roman"/>
                </a:rPr>
                <a:t>EURO I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0:59:31Z</dcterms:created>
  <dc:creator>lab motori</dc:creator>
  <dc:description/>
  <dc:language>en-US</dc:language>
  <cp:lastModifiedBy>ENEA</cp:lastModifiedBy>
  <cp:lastPrinted>2003-02-27T16:31:54Z</cp:lastPrinted>
  <dcterms:modified xsi:type="dcterms:W3CDTF">2003-04-10T14:07:04Z</dcterms:modified>
  <cp:revision>77</cp:revision>
  <dc:subject/>
  <dc:title>Nessun titolo diapositiva</dc:title>
</cp:coreProperties>
</file>